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88FD-2099-427C-8F03-E069970B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CE2-D775-4649-A0B3-BE4B3D779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244-16A9-4247-8BF0-FAB0B1DA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54B-BB6C-463E-A8FA-B6952837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A65-C9A5-4599-8E53-661774C7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F0C-ACF8-434A-BA6E-6F578E29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520-0888-4DDF-B0D9-1D2C3AB5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569E-7EF5-47DC-9650-799BD470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1046-8EDD-4F87-AB56-E0425D8A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399-064B-42E1-BC35-4312CD3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5AD1-BE13-4DC6-9F11-C321EC03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5EAA-40A2-49C4-BC93-53065323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95DA-585B-49A2-B3D8-06FBC456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B28-8E89-42E2-B56E-D9D10B5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543B-FF6E-4030-9AD7-29EB05A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F09C-67A6-4ED6-A997-1900E71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0290-1CD5-46B5-8270-327B8776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5530-0608-46E9-88DC-0DAE10A4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05F-ACF1-4DE9-8636-7EFB5386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431-35BB-4B3B-9493-F49A868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1CF-4BDE-4BBE-AAD2-6455DED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A87-A9B0-4800-BB05-31847B1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4C7-D8B4-4EE6-83B1-011DA946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E2C-4D83-43AC-B310-4265A1C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6AE-F04F-495E-A27D-DB1DEDE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D4E-2AA5-4989-8B46-7436A66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82FE-2B76-477E-BC3A-11169D29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937-3ACA-4004-93AA-B86CE2908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49080" y="4059000"/>
            <a:ext cx="607068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Hannah Caldwell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1066680" y="1143000"/>
            <a:ext cx="5715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John Glenn, Jr.</a:t>
            </a:r>
            <a:endParaRPr b="1" lang="en-US" sz="24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6" descr="http://www.audiologyonline.com/management/uploads/interviews/john_glenn3.gif"/>
          <p:cNvPicPr/>
          <p:nvPr/>
        </p:nvPicPr>
        <p:blipFill>
          <a:blip r:embed="rId3"/>
          <a:stretch/>
        </p:blipFill>
        <p:spPr>
          <a:xfrm>
            <a:off x="152280" y="3124080"/>
            <a:ext cx="270036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380880" y="236232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ew from Los Angeles to New York City in 3 hours, 23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to orbit the earth 3 times in less than 5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omplished in 134 earth orbits, traveling 3.6 million mile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13 hours 23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ine day 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ew over Africa, Indian Ocean, Australia, Pacific Ocean, West Coast of the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ited States, over Florida, back in less than 2 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craft splashed in Pacific Ocean 800 miles from Berm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nt to space with 6 other 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1447920" y="76212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Fligh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0" name="Picture 7" descr="http://grin.hq.nasa.gov/IMAGES/LARGE/GPN-2000-000686.jpg"/>
          <p:cNvPicPr/>
          <p:nvPr/>
        </p:nvPicPr>
        <p:blipFill>
          <a:blip r:embed="rId3"/>
          <a:stretch/>
        </p:blipFill>
        <p:spPr>
          <a:xfrm>
            <a:off x="6934320" y="4038480"/>
            <a:ext cx="1981080" cy="2475000"/>
          </a:xfrm>
          <a:prstGeom prst="rect">
            <a:avLst/>
          </a:prstGeom>
          <a:ln w="0">
            <a:noFill/>
          </a:ln>
        </p:spPr>
      </p:pic>
      <p:pic>
        <p:nvPicPr>
          <p:cNvPr id="101" name="MSj04416580000[1].wav" descr=""/>
          <p:cNvPicPr/>
          <p:nvPr/>
        </p:nvPicPr>
        <p:blipFill>
          <a:blip r:embed="rId4"/>
          <a:stretch/>
        </p:blipFill>
        <p:spPr>
          <a:xfrm>
            <a:off x="1295280" y="182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8016 L 3.33333E-006 -0.5131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71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 rot="207600">
            <a:off x="1619640" y="3233880"/>
            <a:ext cx="62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t down three MI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planes got hit 11 times in World War II and Korean W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ps pilot in World War I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 rot="1200">
            <a:off x="2438280" y="8377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ar Flight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7"/>
          <p:cNvSpPr/>
          <p:nvPr/>
        </p:nvSpPr>
        <p:spPr>
          <a:xfrm rot="21407400">
            <a:off x="1148760" y="3123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ic flight lasted 4 hours 55 minutes launch to la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w 59 missions supporting the tro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1028"/>
          <p:cNvSpPr txBox="1"/>
          <p:nvPr/>
        </p:nvSpPr>
        <p:spPr>
          <a:xfrm>
            <a:off x="1676520" y="6094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istoric Flights</a:t>
            </a:r>
            <a:endParaRPr b="0" i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2057400" y="2895480"/>
            <a:ext cx="4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679400" y="2895480"/>
            <a:ext cx="41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est to venture into space at age 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space shuttle Discovery cr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 named Friendship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ne-foot by seven-foot caps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 rot="21327600">
            <a:off x="990360" y="7621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1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re Facts About John Glenn, J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1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833120" y="3429000"/>
            <a:ext cx="50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dier, pilot, astronaut, business man, se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idential candidate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52480" y="1143000"/>
            <a:ext cx="480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en not an astronaut/Job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6" descr="http://serebra.typepad.com/.a/6a010535cd7148970c0120a599865f970b-800wi"/>
          <p:cNvPicPr/>
          <p:nvPr/>
        </p:nvPicPr>
        <p:blipFill>
          <a:blip r:embed="rId1"/>
          <a:stretch/>
        </p:blipFill>
        <p:spPr>
          <a:xfrm>
            <a:off x="5226120" y="3825720"/>
            <a:ext cx="39178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057400" y="685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2840" y="1143000"/>
            <a:ext cx="894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http://library. thinkquest.org/4034/glenn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 http://www.infoplease.com/spot/glenn1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www.johnglennhome.org/john_glenn.s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: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www.starchild.gsfc.nasa.gov/docs/StarChild/whos_who_lev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ok: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tronau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:  Michael Goodma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: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yclopedia :World 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:  22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5:53:10Z</dcterms:created>
  <dc:creator>CALDWHAN000</dc:creator>
  <dc:description/>
  <dc:language>en-US</dc:language>
  <cp:lastModifiedBy>CALDWHAN000</cp:lastModifiedBy>
  <dcterms:modified xsi:type="dcterms:W3CDTF">2010-02-05T16:27:39Z</dcterms:modified>
  <cp:revision>18</cp:revision>
  <dc:subject/>
  <dc:title>John Glenn, Jr.</dc:title>
</cp:coreProperties>
</file>